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9.png" ContentType="image/png"/>
  <Override PartName="/ppt/media/image6.jpeg" ContentType="image/jpe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A93-9636-4502-85A4-BB85D43E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2F2-06BB-4746-8681-5BC7FF35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7AD-E0FB-43C3-9484-7F41BAA1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C17-FE79-4ABE-8F18-2DDF2E00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257A-A8E4-4F8D-B62C-6BC25D71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E7B0-706A-4D9E-83F2-E0D4DF31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1D5B-BC16-43FA-804A-84FBF8A0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6336-E02C-4292-808E-40C80DF5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9240-D0F4-4F78-81B5-20033613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E58E-EFB8-4CA2-AD5D-2873D20F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B18A-85DD-4EFA-B389-4B2B8AEF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1CA-93CC-4E24-9EC1-C4864169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1EED-A8C4-46E3-9181-36CD85B9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410A-D81A-406B-813B-3273ABDF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2E15-A905-4AB0-9E7E-48BA6EB5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33C2-D550-4358-A129-8DD862B2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6765-7774-4CF8-AFD1-092A40AA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13761-1D24-44F2-9F79-772C34FF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6E4C6-B11C-426F-B874-B742C2A0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0C33-AF1E-4024-BA52-80C9A254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B4098-837D-42E6-B39D-808711B3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230FE-1E59-483F-AAAC-5F098846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8B2-7453-45C1-9794-AB621502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42FED-9FC3-48F7-BF25-57ED9665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A0861-3E8F-465C-8172-49DD1BD4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29F2-46BC-468D-9970-E276EBB6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26F6-30E6-4078-86BA-7EFA674C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C37AD-4060-4E2C-A1BF-1426ED20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15DF1-C249-4CAF-B6A8-6D928628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5E62-4DB4-40CE-995B-EB242833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5A594-ABA4-43F5-8EA3-6145848B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0F364-A22B-4653-8355-3B702571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11AEA-15AF-4B49-82B8-A5086FEB7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166B-584E-421C-AF7E-FE99E134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30B13-3B85-46D4-B3A8-0DDE9FA9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3EB52-019D-4761-9E6B-E50CFDE3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AE8B-1738-4F73-9697-5355FCB0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79885-DB1B-47B3-AF67-6A5C4998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4FB35-C14B-4BBD-944D-74484D0E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FBAC7-AF9A-4D61-B44A-48A036D2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34065-CF62-49B1-B396-F12D0F80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3681B-499F-4909-909E-5AE55DF39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4B5D5-F974-4A14-AC3C-99D6F94A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0AA36-10EC-404B-8E2D-F09156F6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EF47-DD28-4CB5-9E5C-0E4C0FB7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AB564-ABE9-4EBC-B287-7F804498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B2CDD-E385-4404-BB1C-2B236F29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E4EC7-1765-4843-9866-5182031E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4A933-0991-48CA-84E5-9D884E7D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40015-6095-4885-8112-58B27AF3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6FDBD-9F45-40D5-8EE6-993B7F8D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B765D-1F8E-4B6B-A941-5EF1E589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FAC82-3F09-475F-AE8F-072224E2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9CB90-6445-429F-BCC9-D1339559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4D595-71B3-4A38-AD29-458A2288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02C-F387-4613-99C7-C1008BFF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16BC5-B0EC-45AB-BDF9-5E3C2AB0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AE900-FF3C-4917-B5E9-734AE515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70109-D9F8-4AD3-82D3-B9F4DF6A8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4A7CC-1FB8-4EBB-96A1-CAFF6F33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7F74E-43E7-4F95-9375-7B6B5275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FF162-2884-4CDF-8328-2D75A0DF3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F9DE8-F9F3-4EE0-BDF0-8DC6A3FF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762F6-F5E3-4CC8-92F3-9F09F805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E95D5-5A61-4032-A8AE-1E221C1C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1737F-7B9A-4556-ABE5-0FF1EECA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E2E-D950-4A9D-9AFB-F173CBDA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B46A9-BC9E-457A-9787-ED72A150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34AF8-64AF-40E6-8EE3-01AD0999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70BA9-2106-42F5-B511-8455B5A2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8E0C8-E6C5-4580-9742-3E641EC9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472AF-5975-4153-8FDA-97155543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35FD2-62DF-42C6-B3ED-3371E605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64E9F-DDBD-4CDA-9F4D-19F58B6D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ADBE0-C464-4B69-8D3B-6AB0EBCB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0B9A2-9489-40BF-8B42-F3FBDDEC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E6B59-2700-4B3A-9C86-5FFF0CF7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B0C-30C4-4C2E-9C71-EF78B0AB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759D6-18A7-4714-BD05-1928A83B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26633-76D7-468C-989A-58E89140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26C31-BA86-4B76-B48C-83635E9C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B72BF-A107-4285-A706-CE9F5876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2EAC3-C3FF-4DB6-97DF-A948484D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69896-FB82-4CD1-B7BB-EC5E1640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8D537-3B98-418B-A802-DBF159E4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E830C-D256-4369-88BE-4A21D877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35FC8-CDC4-4DB0-847B-4470A8FF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2D191-D756-4457-AAFF-77F104BE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70E-51B2-43DF-B8DE-EAE32EDC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A3CC5-1F95-48F9-B1A3-2F04BC59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DAEA8-FDFD-4794-9990-AF3FD981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06548-6C8A-4222-B542-BB65FB58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BBF79-B283-48DD-9587-02728288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9ADF9-6F02-4F08-B3D6-840D7879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A2183-B8B2-4C04-B3CD-4E233AA5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D4985-5D91-4183-A10B-F10A0738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28CA-C74F-4809-8C86-3531DCEF3DE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A8A6-EC4D-4F40-A233-523DE57B891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6B6E-D53C-494C-83C8-2DD52097564A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C7D9-98DA-48AF-A508-8DF1962C4203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4020-981B-4B41-BFCF-0A5A79F4183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4380-0A71-42B4-B6BE-8DF501E88AB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2054-8A9F-488A-AE25-81D1A925159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3ABE-31CC-4427-82AB-7305A8B9CCA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72;&#1092;&#1088;&#1086;&#1085;&#1086;&#1074;,_&#1040;&#1085;&#1090;&#1086;&#1085;_&#1045;&#1074;&#1075;&#1077;&#1085;&#1100;&#1077;&#1074;&#1080;&#1095;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1866_&#1075;&#1086;&#1076;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3139920" y="1054080"/>
            <a:ext cx="6491520" cy="27496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743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2060"/>
                </a:solidFill>
                <a:latin typeface="Arial Black"/>
              </a:rPr>
              <a:t>Франца Шуберта</a:t>
            </a:r>
            <a:endParaRPr b="0" lang="en-US" sz="61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2060"/>
                </a:solidFill>
                <a:latin typeface="Arial Black"/>
              </a:rPr>
              <a:t>1797-1828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144360" y="0"/>
            <a:ext cx="32036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Ещё в XIX веке предпринимались попытки завершения «Неоконченной» симфонии другими композиторами. В настоящее время существует несколько вариантов завершения «Неоконченной» симфонии — в частности, варианты английского музыковеда Брайана Ньюбаулда (англ. </a:t>
            </a:r>
            <a:r>
              <a:rPr b="0" i="1" lang="ru-RU" sz="2700" spc="-1" strike="noStrike">
                <a:solidFill>
                  <a:srgbClr val="000000"/>
                </a:solidFill>
                <a:latin typeface="Lucida Sans Unicode"/>
              </a:rPr>
              <a:t>Brian Newbould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) и российского композитора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Антона Сафронова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Как продолжение симфонии Шуберта была задумана Восьмая симфония Бориса Тищенко (2008), которая впервые прозвучала 20 декабря 2008 года в одном концерте с произведением австрийского композитор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14_Franc_SHubert_-_Simfoniya_8_si_minor_Neokonchennaya_CHast_2_Andante_con_moto.mp3" descr=""/>
          <p:cNvPicPr/>
          <p:nvPr/>
        </p:nvPicPr>
        <p:blipFill>
          <a:blip r:embed="rId1"/>
          <a:stretch/>
        </p:blipFill>
        <p:spPr>
          <a:xfrm>
            <a:off x="802800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ц Шуберт – австрийский композитор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 композитора называют романтическим направлением в музыке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Шуберта началась новая эпоха в истории немецкой вокальной миниатюры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создал более 600 песен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Шуберту появился новый тип –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рико-драматической симфони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о́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музыкальное произведение для оркестра. Как правило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он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ишутся для большого оркестра смешанного состава (симфонического), но существуют 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он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трунного, камерного, духового и других оркестров..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«Неоконченная симфония» си минор 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— одно из самых знаменитых симфонических произведений австрийского композитора Франца Шуберта. Написана осенью 1822 года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166920" cy="475272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3851280" y="620640"/>
            <a:ext cx="4321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фония посвящена любительскому музыкальному обществу в Граце, которому в 1824 году были представлены 2 первые ча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Шуберт создавал симфонию сначала в виде наброска («дирекциона») на двух строчках и лишь затем — в партитуре. Сохранились наброски-дирекционы трёх частей, в партитуре Шуберт записал лишь две первые части симфонии, сохранилось также начало партитуры третьей ча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укопись была сохранена другом Шуберта Ансельмом Хюттенбреннером, у которого её обнаружил венский дирижёр Иоганн Херберг, впервые исполнивший симфонию в концерте венского Общества любителей музыки 17 декабря 1865. (Прозвучали завершённые Шубертом первые две части, а вместо отсутствующих 3-й и 4-й частей была исполнена финальная часть из ранней Третьей симфонии Шуберта ре мажор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55292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4500720" y="0"/>
            <a:ext cx="455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</a:t>
            </a:r>
            <a:r>
              <a:rPr b="0" lang="ru-RU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1866 году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симфония была опубликована (в виде первых двух частей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сле 1822 года Шуберт к симфонии не возвращался, причины прекращения работы над ней неизвестны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е исключено, что 3-я и 4-я часть симфонии были попросту утрачены, так как рукописи её хранились у других людей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2:34:08Z</dcterms:created>
  <dc:creator>User</dc:creator>
  <dc:description/>
  <dc:language>en-US</dc:language>
  <cp:lastModifiedBy>Наташа</cp:lastModifiedBy>
  <dcterms:modified xsi:type="dcterms:W3CDTF">2020-04-14T15:29:29Z</dcterms:modified>
  <cp:revision>4</cp:revision>
  <dc:subject/>
  <dc:title>СИМФОНИЧЕСКАЯ МУЗЫКА</dc:title>
</cp:coreProperties>
</file>