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A73-FE40-4459-8B0E-79D5818C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EB9-55CC-4F36-838E-F3E48E7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FFA-E26A-4EA9-AC6F-DADC6D87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DB3-E77A-4FBE-96DC-E92A511E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B71-51CA-4AB8-925D-EC74BDFD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327-B509-4BAF-874A-1865BD6F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1AC-728C-43A9-9B33-45DD2368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7C2F-C119-4B72-956A-ACAFF9E9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3F93-399B-46F9-9FC8-D7266DB6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D399-1CE5-4430-89AB-A6A7EF8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B6DB-717C-4481-8596-2010DCC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B47-6221-4409-AB15-E78037B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B0D-E61C-477C-84F8-86C7590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719-1B8B-42BF-97FD-4E70E1B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E6E0-373B-4B4E-9FB7-12D11C2F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894-B6A9-4E50-A2A3-3BAA0A76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05A1-84E4-4C7E-93C2-1C2088F1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ABB3-6298-4680-B12A-48431621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6E91-4538-4A96-A905-A902639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921B-75B2-43E5-A082-86B66C0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7F2D-5A7B-4EDB-9D62-B64AF027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38DD-4304-4722-88C0-228E98FE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338-C772-4441-9909-EB8ED1DB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E356-F950-4DBB-BDE2-31865551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A4F8-7A3A-4354-862B-4B13D42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56B8-BD80-485C-A9E2-E176A89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ABB9-75F6-4C0C-9C63-732BB6C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7E2C-8846-4C64-A655-25F8DFDA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3C1D-09BA-426B-B47F-CA0BE629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DD8A-E607-4B03-A354-EC864F8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AF17-0B09-43CE-A3DD-B0685F3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F325-17F2-4DCF-ACF5-DE3B2619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A8CE-A528-42D2-9CDC-6528FDE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39A-A0E6-4EE2-B811-4FF9A8E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A1AB-0D24-4164-8582-3F605DD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6AD0-C448-4312-B434-94C6057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17EB-CE51-4F59-924B-9490FD89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1D58-725B-4DA4-808F-1ADF8AF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8963-B17B-4AFA-BCA3-3459F5DC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3DF1-BCA0-4273-843B-D9F2985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1592-2944-48CF-93E8-B3B064FD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685F-5262-4A37-92FB-0F35FF85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F079-CEAE-4F24-9008-2967D9C3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0FF7-F3A4-451A-8C1D-DB80A65C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BB2-AFEA-4F58-93F8-F704FCF1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A8D4-3824-4E78-B569-98C6745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44A9-BFEC-429D-A051-F25B2ED6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5809-BB15-4B93-84D0-67A53A2A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4145-F652-47C8-A80D-186A3B4C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1535-756D-44AB-91B6-F27F22EA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14E15-26A5-4202-897E-9AA99A7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5B0B-4837-424B-B3E9-FBA2BD3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C236-13B2-44EF-9920-5CF4A98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5D55-EC17-4777-AA57-A303C6F5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87D2-9A18-4B44-9DB9-E7AA7A4E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C66-C355-4727-A562-BFFF8D6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FC7E-E691-4923-9C86-5BC409AC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4B079-0EA1-468B-A254-7D050AA9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E92A-E59C-4EFE-BC87-43CF4CCB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71FE-61A2-4954-8697-D5A52AC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04B5-11D4-4E61-8461-C47A5DF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2642-7DA6-4AD2-953E-A0F97195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A143-E4D4-437F-9E09-098E2FB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01BA-3DD8-47F8-AAAA-87E87B2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934DF-A505-421E-81F1-56094A9D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C80A-4782-456C-9AC6-AFC1B5A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EC5-32C5-4A84-8E1D-0A96DF2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A123-1B69-41D4-805B-108BEA7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5B72-5799-4BBA-90C1-EC9AE68B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70CC6-4EDF-4B61-892C-87CE04A9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874BE-1862-43DE-836F-E134FFD2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268E1-9E81-4637-82A7-B9F1AA7C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3DE3-4B7E-4606-8AA3-EF38CDF5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FC32-5F91-46A5-83FD-32450F4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D57F-4C65-4B5C-998D-A823CB6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BD8E-3B38-4C18-9CA3-419A8917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8071-35AD-4C69-BEDD-EB208356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2D2-24C2-43B9-881F-6D24DF9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A4577-761C-43FF-B789-260FD88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9E28-FA9A-4E2F-964B-EEE15A5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F9F9E-D1FE-4D44-B828-D8B3D1F1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185B5-5B2A-4829-9407-C4EDFE64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D5663-1B8A-41CE-9D56-7EA9DA5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B414-B06E-4678-B69D-C05399F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2790-F21B-40DD-AEFE-4279907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4EFE7-B85D-4772-99DC-A29D3DD9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DF9A-BC0A-40DA-8CD5-3E7E51D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33B9-076C-43E0-866C-FE2A4381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C7E-650C-4374-AB25-32EE1F1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4E71-340C-4654-88B5-B56DD89C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8CD94-9C8D-4CA8-9205-BE29BA3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E3327-EC70-4C03-902F-226C077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5179-2908-4E5F-B0C2-67737B9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4624-1810-4E5B-915E-DD00ED4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797C1-390D-4564-9938-35504B03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D8B56-3B1E-49C8-99B5-D257C764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B3D-1616-460A-B94B-72B75E75DC5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CA70-66C7-416B-B937-FB278C3BE9B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DEB-AF8F-4D4A-B016-7EE8723A37C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4F3-1CB2-42CC-9F90-DF15007C5F4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A53A-FE9C-4983-8D7D-88DB9E0929B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F43-907D-4A81-9A90-8CF27F744F5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EB4-FC0A-4460-8BF4-84E8D2AF86A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9E4-69DF-4876-9917-6A257FDF0DA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2;&#1092;&#1088;&#1086;&#1085;&#1086;&#1074;,_&#1040;&#1085;&#1090;&#1086;&#1085;_&#1045;&#1074;&#1075;&#1077;&#1085;&#1100;&#1077;&#1074;&#1080;&#1095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866_&#1075;&#1086;&#1076;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139920" y="1054080"/>
            <a:ext cx="6491520" cy="2749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Arial Black"/>
              </a:rPr>
              <a:t>Франца Шуберта</a:t>
            </a:r>
            <a:endParaRPr b="0" lang="en-US" sz="6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</a:rPr>
              <a:t>1797-182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3203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щё в XIX веке предпринимались попытки завершения «Неоконченной» симфонии другими композиторами. В настоящее время существует несколько вариантов завершения «Неоконченной» симфонии — в частности, варианты английского музыковеда Брайана Ньюбаулда (англ. 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Brian Newbould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российского композитора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Антона Сафронов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Как продолжение симфонии Шуберта была задумана Восьмая симфония Бориса Тищенко (2008), которая впервые прозвучала 20 декабря 2008 года в одном концерте с произведением австрийского компози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4_Franc_SHubert_-_Simfoniya_8_si_minor_Neokonchennaya_CHast_2_Andante_con_moto.mp3" descr=""/>
          <p:cNvPicPr/>
          <p:nvPr/>
        </p:nvPicPr>
        <p:blipFill>
          <a:blip r:embed="rId1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 Шуберт – австрийский композитор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композитора называют романтическим направлением в музык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Шуберта началась новая эпоха в истории немецкой вокальной миниатюр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здал более 600 песен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Шуберту появился новый тип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ко-драматической симфон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́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музыкальное произведение для оркестра. Как правило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утся для большого оркестра смешанного состава (симфонического), но существуют 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рунного, камерного, духового и других оркестров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«Неоконченная симфония» си минор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— одно из самых знаменитых симфонических произведений австрийского композитора Франца Шуберта. Написана осенью 1822 год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66920" cy="4752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3851280" y="620640"/>
            <a:ext cx="4321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я посвящена любительскому музыкальному обществу в Граце, которому в 1824 году были представлены 2 первые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уберт создавал симфонию сначала в виде наброска («дирекциона») на двух строчках и лишь затем — в партитуре. Сохранились наброски-дирекционы трёх частей, в партитуре Шуберт записал лишь две первые части симфонии, сохранилось также начало партитуры третьей ча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укопись была сохранена другом Шуберта Ансельмом Хюттенбреннером, у которого её обнаружил венский дирижёр Иоганн Херберг, впервые исполнивший симфонию в концерте венского Общества любителей музыки 17 декабря 1865. (Прозвучали завершённые Шубертом первые две части, а вместо отсутствующих 3-й и 4-й частей была исполнена финальная часть из ранней Третьей симфонии Шуберта ре мажо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4500720" y="0"/>
            <a:ext cx="455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1866 году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имфония была опубликована (в виде первых двух частей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ле 1822 года Шуберт к симфонии не возвращался, причины прекращения работы над ней неизвестны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исключено, что 3-я и 4-я часть симфонии были попросту утрачены, так как рукописи её хранились у других люде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2:34:08Z</dcterms:created>
  <dc:creator>User</dc:creator>
  <dc:description/>
  <dc:language>en-US</dc:language>
  <cp:lastModifiedBy>Наташа</cp:lastModifiedBy>
  <dcterms:modified xsi:type="dcterms:W3CDTF">2020-04-14T15:29:29Z</dcterms:modified>
  <cp:revision>4</cp:revision>
  <dc:subject/>
  <dc:title>СИМФОНИЧЕСКАЯ МУЗЫКА</dc:title>
</cp:coreProperties>
</file>